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534356"/>
        <c:axId val="8493341"/>
      </c:barChart>
      <c:catAx>
        <c:axId val="895343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93341"/>
        <c:crosses val="autoZero"/>
        <c:auto val="1"/>
        <c:lblAlgn val="ctr"/>
        <c:lblOffset val="100"/>
        <c:noMultiLvlLbl val="0"/>
      </c:catAx>
      <c:valAx>
        <c:axId val="84933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5343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10C5-1C0E-4F1B-B082-856B9D6D7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6E03-EA34-4B88-81C0-8603840A7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9FCF-B36C-40FA-8A94-04015F2CD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4266-3256-46FA-8086-8CACC18A3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459C-1C03-4DFE-AE04-0C924FAD1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C916-13B9-4B6E-889D-0DA7DE449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AD57-1B9A-4870-BEF6-6B9486877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1F9B-04E3-4C60-AC48-CB1E29D56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8980-B8AB-4F42-ADB7-9054CAC77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9EEF-99FA-4A72-9171-C3693A71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9199-7A9A-4954-93CB-853051DE5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E455-17D4-44A5-8DF3-6A1A0550B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F16B0F-6B70-4311-971B-26DE8672043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