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31930"/>
        <c:axId val="90153177"/>
      </c:barChart>
      <c:catAx>
        <c:axId val="65731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153177"/>
        <c:crosses val="autoZero"/>
        <c:auto val="1"/>
        <c:lblAlgn val="ctr"/>
        <c:lblOffset val="100"/>
        <c:noMultiLvlLbl val="0"/>
      </c:catAx>
      <c:valAx>
        <c:axId val="901531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31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554C-B814-40F2-B686-D39875248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BDA6-A77F-491C-BF08-4354F5686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712-2736-4CE8-ACD6-E9CAE407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5DB8-46E9-463D-966D-F1D49EA9F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BC6-A8FD-413B-BC5B-68E19C4BE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803EC-1220-4ACC-9BA0-67D50A599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19D2-3B5F-44F0-B260-F3D1AD7DC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BB12-5156-4828-BA8C-C02820FF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B2E5-F081-4D83-ABA2-835BF7FCD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F517-DCCB-4C28-A673-040E66253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C906-9729-40E9-8953-1A04A1A7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8B19-08AC-4104-B9C2-8E0F6126B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4605C9-B648-4E30-B459-AE5996D643C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