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06537"/>
        <c:axId val="92544916"/>
      </c:barChart>
      <c:catAx>
        <c:axId val="32506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4916"/>
        <c:crosses val="autoZero"/>
        <c:auto val="1"/>
        <c:lblAlgn val="ctr"/>
        <c:lblOffset val="100"/>
        <c:noMultiLvlLbl val="0"/>
      </c:catAx>
      <c:valAx>
        <c:axId val="92544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6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AAA-B309-4F0F-92CA-EBE19351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A7C-93E7-4B61-94D0-6A39A4E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7DF-3608-4090-8A0F-40FEE27F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C4E-7F28-4E3D-97C3-0FD26437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6EB-455F-45C6-B03D-AC53F3A2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375-7310-4951-93CE-AA6EC43B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A7D-19D0-4D9A-BBF1-30805FFA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7EC-962D-4E1F-8B07-6A7C36F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488-4298-4F6C-A87C-6E43CA0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371-139A-43AF-AC9E-3BA1E6D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8F5-1349-412A-B1BD-B8729BF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418-B390-4A14-82F3-98F66CCE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BF10-0EF7-4F11-A0D5-94143D2FD9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